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152-3F92-40BC-BA66-0B7549F6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D90-D78B-4B26-8404-1735319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C37-0750-4A1C-84E1-3A5FEC3F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7A0-E87D-4852-884A-A1AF8CBA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8C64-7AD5-4FAC-9BCA-3606DF2E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8121-7006-4FEE-BAE1-D7D74DF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676-1783-4503-9A09-F89CBC6C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248-E4B4-4B0C-898E-CF0287F3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C86E-8CC6-4E99-94CE-9016269B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E85-7E2A-4A40-8D8C-E8BFE9F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8EBB-37F2-4002-AABE-30C95E0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5BB-18D8-4272-8C9A-5DC77FE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B125-695E-4C1D-8515-AC23E5E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4651-FBB9-407A-82CA-DB98CE5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DCD1-3E0B-4DF1-9842-27D0532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A087-50BA-459D-8A0B-E12ACD1D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E056-ED5C-48D0-928B-D54E7B8C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A81-D6F7-400B-B566-F529250C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B18-BD1E-4CFC-B4F9-D3C788CB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8A5-9B59-4C37-B098-63A198D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241-CC6C-42A9-B159-1C54CE9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450-74E6-419B-BCCB-EF57D06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552-6236-4F47-9544-B82562B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6BD-E9E4-4FC9-9CB6-580194B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5B927-20F0-4AB5-B016-09ECA99C8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C721-CDA9-480E-B023-C516502BF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jpress.org/article/news/52577" TargetMode="External"/><Relationship Id="rId3" Type="http://schemas.openxmlformats.org/officeDocument/2006/relationships/hyperlink" Target="http://www.minnpost.com/globalpost/2011/08/31/31214/germany_fights_neo-nazis_after_norway_killings" TargetMode="External"/><Relationship Id="rId4" Type="http://schemas.openxmlformats.org/officeDocument/2006/relationships/hyperlink" Target="http://www.france24.com/en/files/imagecache/france24_ct_player_thumbnail_169/article/image/norvege-new.jpg" TargetMode="External"/><Relationship Id="rId5" Type="http://schemas.openxmlformats.org/officeDocument/2006/relationships/hyperlink" Target="http://www.escapistmagazine.com/news/view/112194-Neo-Nazis-Faked-Out-by-Trick-T-Shirts" TargetMode="External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Sub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-Nazi'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in Aver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jpress.org/article/news/5257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and picture for Step on gas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innpost.com/globalpost/2011/08/31/31214/germany_fights_neo-nazis_after_norway_kil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for Germany fight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france24.com/en/files/imagecache/france24_ct_player_thumbnail_169/article/image/norvege-new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cture for germany fight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escapistmagazine.com/news/view/112194-Neo-Nazis-Faked-Out-by-Trick-T-Shi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icle and picture for T-shirt tricks neo naz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 for power point: Austin Ave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n gas Sl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 Voigt made a campaign slogan saying step on the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ake offense to this thinking that it is reffering to holocaust gas cha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ers were put up around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66636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on gas slo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ter was for the national democratic party of Germany which currently has between 6,000 and 7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 Voigt was found guilty in 2004 of Nazism for calling Hitler a great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8288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ight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is trying to hinder the far right wing German political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ard to ban a political party even if there beliefs are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Germans think that it is a good idea to ban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ight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onsidering choking the parties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s in Norway has made efforts to ban party even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3895560"/>
            <a:ext cx="3238560" cy="18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 tricks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rock concert trick t-shirts were being handed out that when you washed it the saying on it would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ying changed from “Hardcore rebel” to “If your t-shirt can do it, you can do it to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shirts were donated anonymously by Exit Duetschland which is a group dedicated to assisting people to escape far right extrem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 trick neo na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rdon Richter of the far right extremist thought that it was pathetic to spend money on something like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Deutschland felt satisfied about spreading the word of ther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4753080"/>
            <a:ext cx="333360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eople were in the NPD in 200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6000 to 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60000 to 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600 to 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centage of Germans think is it a good idea to ban the N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Qui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swer to 1 was A.6000-7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swer to 2 was C.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23:43:39Z</dcterms:created>
  <dc:creator>Austin  Averett</dc:creator>
  <dc:description/>
  <dc:language>en-US</dc:language>
  <cp:lastModifiedBy>Austin  Averett</cp:lastModifiedBy>
  <dcterms:modified xsi:type="dcterms:W3CDTF">2011-09-02T01:10:32Z</dcterms:modified>
  <cp:revision>2</cp:revision>
  <dc:subject/>
  <dc:title/>
</cp:coreProperties>
</file>